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0EF-FA59-4A05-84C8-A79A330A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BFB-BBC0-4BFE-8793-FC1FA62B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6AC-26A0-4B82-8DFD-AC0FA445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289-0FA4-4DD5-86B2-9867013F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A39-FDDC-4E18-B954-6EEBE70D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407-64EC-4173-99A7-A9C49CC4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AED-609F-49D5-B4D4-EA2C12D0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E1F-BB1C-46E1-8810-68C8ABA0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D4E-4749-44B3-A0BB-C3E4ED93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0B5-8511-42DC-9F85-C4E108A4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F5C-A975-4DDC-87CF-13E54E8D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077-5AD7-4B41-97CD-5B97C0A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4BA7-EF07-4644-B5C8-F8DB12BA7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verview of 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like animal cells, plant cells hav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wal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ich provide structure and prot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plant cells contain the green pigment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lorophy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otosynthes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 process where plants use chlorophyll to make fo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lorophyll is found in a cell structure called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loropla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of the space inside many plant cells is taken up by a large, membrane-bound structure cal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entral vacuo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which regulates water cont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tists think plants probably evolved from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reen alga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the sea because they have the same types of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lorophyll and caroteno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sils of early plants are similar to ancien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n alg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lants moved to land, they had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a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new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unlight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rbon diox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developed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help hold water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s develop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lul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llow them to stand upright on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resistan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abled plants to reproduce on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920" y="56386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 Plants:  roots, stems and leaves; transpor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5257800" cy="253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3247920" cy="406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419112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 Vascular Plants:  have no roots, stems or le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8:50:52Z</dcterms:created>
  <dc:creator>Teacher</dc:creator>
  <dc:description/>
  <dc:language>en-US</dc:language>
  <cp:lastModifiedBy>Teacher</cp:lastModifiedBy>
  <dcterms:modified xsi:type="dcterms:W3CDTF">2008-09-10T19:01:31Z</dcterms:modified>
  <cp:revision>2</cp:revision>
  <dc:subject/>
  <dc:title>Overview of Plants</dc:title>
</cp:coreProperties>
</file>